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9E7-11A9-44F2-8C42-86BFF142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F24-421C-4065-A93E-D786378A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584-B749-43E7-8D7C-8D8610F9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551-FB7F-46BE-9B65-4AFFA3D1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8643-5DC6-49C3-AB36-E4598A9D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5696-3660-4E47-9EA4-CD7760A4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D653-6B12-4E3B-9FE0-815EAA8D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023F-42AD-488E-A8BB-AE3AA29E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6C1F-04F3-48BA-A537-C6782642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9AAF-6CC4-4882-9378-728EE625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4A85-2ED1-4A15-BE67-31989656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635-A09C-4011-8CB9-23125FAA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3482-792F-4D8E-8D8E-D4E8F9B6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75D8-3B49-4E1A-AC33-07179D95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6227-A632-472E-B461-D6618ECF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6B85-ED9B-4F83-B921-4F2CBCEA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621B-8226-4869-B4F1-A7789984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A83-520C-417D-B048-A3B56AD3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748-0D0D-4B04-A68F-E1248B3C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ABF-9FB3-4DAD-B45E-699DAD76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987-259D-42F7-B58C-E5FC0E73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4B2-25AA-4A9D-8866-C9021D46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8A2-5201-4C7E-BE53-F260A281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001-B40F-4489-BDA2-2499B6FC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E724-CFAF-479F-B53F-0D728FBB0336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FEAB-501B-4A25-8149-851E53F4282E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Movie/6-12/Session 3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video effects and audio have enhanced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Why did you make these particular choices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d2204"/>
                </a:solidFill>
                <a:latin typeface="Arial"/>
              </a:rPr>
              <a:t>We have observed how title sequences, video effects, and transitions can add to or subtract from the overall impact of a movie.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import audio and add audio effects in iMovi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share our movies with other peopl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 we add video effects to our movie clip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udio, whether it is from a CD, computer recording, or GarageBand has the ability to enhance dramatic moments in a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ce an iMovie is created there are many different methods of distributio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can be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played on a websit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ent via emai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ewed on a comput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urned on a DV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deo effects can be used to alter a clip. Effects can be used to alter the speed of the clip, add special effects to the clip, or turn a clip to black and whit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possible sources of digital audio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microphone (built into the computer or external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C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video effect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mporting audio into iMovi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effec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aving the movie in a format everyone can view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specific instru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    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Take the next 30 minutes to import audio. Add video effects (if necessary) and transitions to your movies. After 30 minutes we will come back together and shar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Import audio into iMovie and include it in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Add video effects to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ave your iMovie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hare (export) your iMovie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06T15:05:50Z</dcterms:modified>
  <cp:revision>21</cp:revision>
  <dc:subject/>
  <dc:title>Workshop Title</dc:title>
</cp:coreProperties>
</file>